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0DA6-7B89-43A4-A8FD-05ABDD12A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74BC-75D8-423F-B448-CBC390280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ABBE-CDD8-47D6-B039-00C44DF04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550B-546E-4584-979F-812090B4A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C806-9553-4AAB-B4A8-9E5408D29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D157-4CDA-4BA9-9F7D-667ABA02F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A0A6-A02F-4FF3-8EAA-65E09065A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30BA-9180-456A-BAD7-F6511B1DD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245A-7DF4-4FA0-AF57-0F37EAA8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C3B11-0906-45C8-8D2D-1A5318279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D491-C36B-49F7-9190-77A2A2526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089F-DCAA-4166-A5A4-4434EFD4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BB8B-30F9-414E-8835-AF0D69C04F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unting Tutorial and Re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6 permutations of the letters A, B, &amp;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1219320"/>
            <a:ext cx="60195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can use the Fundamental Counting Principal to determine the number of permutations of n ob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 this ABC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86000" y="3276720"/>
            <a:ext cx="640080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re are 3 choices for 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os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choices for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posi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choice for 3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rd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osi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8640" y="990720"/>
            <a:ext cx="1158840" cy="40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09680" y="487692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52525"/>
                </a:solidFill>
                <a:latin typeface="Arial"/>
              </a:rPr>
              <a:t>3*2*1 = 6 ways to arrange the let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 general, the # of permutations of n objects i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209680" y="2819520"/>
            <a:ext cx="6172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n! = n*(n-1)*(n-2)* 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2133360" y="609480"/>
            <a:ext cx="47242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 skier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2120" y="1981080"/>
            <a:ext cx="77724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How many different ways can 12 skiers in the Olympic finals finish the competition? (if there are no t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2120" y="4114800"/>
            <a:ext cx="7772400" cy="110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52525"/>
                </a:solidFill>
                <a:latin typeface="Arial"/>
              </a:rPr>
              <a:t>12! = 12*11*10*9*8*7*6*5*4*3*2*1 =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b52525"/>
                </a:solidFill>
                <a:latin typeface="Arial"/>
              </a:rPr>
              <a:t>479,001,600 different way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914040" y="23619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y of the 12 skiers can finish 1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the any of the remaining 11 can finish 2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and any of the remaining 10 can finish 3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38080" y="762120"/>
            <a:ext cx="777240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How many different ways can 3 of the skiers finish 1</a:t>
            </a:r>
            <a:r>
              <a:rPr b="0" lang="en-US" sz="3200" spc="-1" strike="noStrike" baseline="30000">
                <a:solidFill>
                  <a:srgbClr val="00008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, 2</a:t>
            </a:r>
            <a:r>
              <a:rPr b="0" lang="en-US" sz="3200" spc="-1" strike="noStrike" baseline="30000">
                <a:solidFill>
                  <a:srgbClr val="000080"/>
                </a:solidFill>
                <a:latin typeface="Arial"/>
              </a:rPr>
              <a:t>nd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, &amp; 3</a:t>
            </a:r>
            <a:r>
              <a:rPr b="0" lang="en-US" sz="3200" spc="-1" strike="noStrike" baseline="30000">
                <a:solidFill>
                  <a:srgbClr val="00008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(gold, silver, bronze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62120" y="4114800"/>
            <a:ext cx="777240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52525"/>
                </a:solidFill>
                <a:latin typeface="Arial"/>
              </a:rPr>
              <a:t>So the number of ways the skiers can win the medals is  12*11*10 = 13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838080" y="762120"/>
            <a:ext cx="7772400" cy="12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mutation of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objects taken 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</a:rPr>
              <a:t>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at a tim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62120" y="4114800"/>
            <a:ext cx="777240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80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8000" spc="-1" strike="noStrike">
                <a:solidFill>
                  <a:srgbClr val="000000"/>
                </a:solidFill>
                <a:latin typeface="Arial"/>
              </a:rPr>
              <a:t> =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3657600" y="3429000"/>
                <a:ext cx="3102120" cy="269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n</m:t>
                        </m:r>
                        <m:r>
                          <m:t xml:space="preserve">!</m:t>
                        </m:r>
                      </m:num>
                      <m:den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e>
                        </m:d>
                        <m:r>
                          <m:t xml:space="preserve">!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533520" y="20574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can be set up as the number of permutations of 12 objects taken 3 at a tim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38080" y="762120"/>
            <a:ext cx="77724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ack to the last problem with the ski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62120" y="3505320"/>
            <a:ext cx="777240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12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  12!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= 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12!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12-3)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9!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990720" y="5105520"/>
            <a:ext cx="5486400" cy="31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 baseline="-25000">
                <a:solidFill>
                  <a:srgbClr val="b52525"/>
                </a:solidFill>
                <a:uFillTx/>
                <a:latin typeface="Arial"/>
              </a:rPr>
              <a:t>12*11*10*9*8*7*6*5*4*3*2*1 </a:t>
            </a:r>
            <a:r>
              <a:rPr b="0" lang="en-US" sz="4400" spc="-1" strike="noStrike" baseline="-25000">
                <a:solidFill>
                  <a:srgbClr val="b52525"/>
                </a:solidFill>
                <a:latin typeface="Arial"/>
              </a:rPr>
              <a:t>=</a:t>
            </a:r>
            <a:r>
              <a:rPr b="0" lang="en-US" sz="4400" spc="-1" strike="noStrike" u="sng" baseline="-25000">
                <a:solidFill>
                  <a:srgbClr val="b52525"/>
                </a:solidFill>
                <a:uFillTx/>
                <a:latin typeface="Arial"/>
              </a:rPr>
              <a:t> </a:t>
            </a:r>
            <a:r>
              <a:rPr b="0" lang="en-US" sz="4400" spc="-1" strike="noStrike" baseline="-25000">
                <a:solidFill>
                  <a:srgbClr val="b52525"/>
                </a:solidFill>
                <a:latin typeface="Arial"/>
              </a:rPr>
              <a:t>                                 </a:t>
            </a:r>
            <a:r>
              <a:rPr b="0" lang="en-US" sz="4400" spc="-1" strike="noStrike" baseline="-25000">
                <a:solidFill>
                  <a:srgbClr val="b52525"/>
                </a:solidFill>
                <a:latin typeface="Arial"/>
              </a:rPr>
              <a:t>	</a:t>
            </a:r>
            <a:r>
              <a:rPr b="0" lang="en-US" sz="4400" spc="-1" strike="noStrike" baseline="-25000">
                <a:solidFill>
                  <a:srgbClr val="b52525"/>
                </a:solidFill>
                <a:latin typeface="Arial"/>
              </a:rPr>
              <a:t>   9*8*7*6*5*4*3*2*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461280" y="5153040"/>
            <a:ext cx="24634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baseline="-25000">
                <a:solidFill>
                  <a:srgbClr val="b52525"/>
                </a:solidFill>
                <a:latin typeface="Arial"/>
              </a:rPr>
              <a:t>12*11*10 = 13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98480" y="-69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533520" y="20574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How many ways can you vis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6 of the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762120"/>
            <a:ext cx="77724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 colleges, you want to visit all or some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350532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utation of 10 objects taken 6 at a tim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80880" y="4800600"/>
            <a:ext cx="853452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baseline="-25000">
                <a:solidFill>
                  <a:srgbClr val="b52525"/>
                </a:solidFill>
                <a:latin typeface="Arial"/>
              </a:rPr>
              <a:t>10</a:t>
            </a:r>
            <a:r>
              <a:rPr b="0" lang="en-US" sz="3000" spc="-1" strike="noStrike">
                <a:solidFill>
                  <a:srgbClr val="b52525"/>
                </a:solidFill>
                <a:latin typeface="Arial"/>
              </a:rPr>
              <a:t>P</a:t>
            </a:r>
            <a:r>
              <a:rPr b="0" lang="en-US" sz="3000" spc="-1" strike="noStrike" baseline="-25000">
                <a:solidFill>
                  <a:srgbClr val="b52525"/>
                </a:solidFill>
                <a:latin typeface="Arial"/>
              </a:rPr>
              <a:t>6</a:t>
            </a:r>
            <a:r>
              <a:rPr b="0" lang="en-US" sz="3000" spc="-1" strike="noStrike">
                <a:solidFill>
                  <a:srgbClr val="b52525"/>
                </a:solidFill>
                <a:latin typeface="Arial"/>
              </a:rPr>
              <a:t> = 10!/(10-6)! = 10!/4! =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52525"/>
                </a:solidFill>
                <a:latin typeface="Arial"/>
              </a:rPr>
              <a:t>                   </a:t>
            </a:r>
            <a:r>
              <a:rPr b="0" lang="en-US" sz="3000" spc="-1" strike="noStrike">
                <a:solidFill>
                  <a:srgbClr val="b52525"/>
                </a:solidFill>
                <a:latin typeface="Arial"/>
              </a:rPr>
              <a:t>3,628,800/24 = 151,2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09480" y="24379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0000"/>
          </a:bodyPr>
          <a:p>
            <a:pPr marL="2055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!/(10-10)!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2055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!/0!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838080" y="762120"/>
            <a:ext cx="77724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many ways can you visi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ll 10 of them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85800" y="426708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52525"/>
                </a:solidFill>
                <a:latin typeface="Arial"/>
              </a:rPr>
              <a:t>10! =     ( 0! By definition = 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990720" y="5105520"/>
            <a:ext cx="85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52525"/>
                </a:solidFill>
                <a:latin typeface="Arial"/>
              </a:rPr>
              <a:t>3,628,8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609480" y="2437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some of the objects are repeated, then some of the permutations are not distinguishab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re are 6 ways to order the letters M,O,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38080" y="762120"/>
            <a:ext cx="77724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 far in our problems, we have used distinct object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4267080"/>
            <a:ext cx="77724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MOM,  OMM,  M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MOM,  OMM,  M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09480" y="57150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Only 3 are distinguishable.  3!/2! = 6/2 =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609480" y="2437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number of DISTINGUISHABLE permutations of n objects where one object is repeated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imes, another is repeated q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imes, and so o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! /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 *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 * … * q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762120"/>
            <a:ext cx="7772400" cy="69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mutations with Repet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Fundamental Counting </a:t>
            </a: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Principa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315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you have 2 events: 1 event can occur m ways and another event can occur n ways, then the number of ways that both can occur i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m*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62120" y="3809880"/>
            <a:ext cx="7696080" cy="18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Event 1 = 4 types of mea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Event 2 = 3 types of br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How many different types of sandwiches can you mak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53800" y="5791320"/>
            <a:ext cx="151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52525"/>
                </a:solidFill>
                <a:latin typeface="Arial"/>
              </a:rPr>
              <a:t>4*3 = 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09480" y="24379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OHIO : 4 letters with 0 repeated 2 tim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Arial"/>
              </a:rPr>
              <a:t>4!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en-US" sz="2900" spc="-1" strike="noStrike" u="sng">
                <a:solidFill>
                  <a:srgbClr val="000000"/>
                </a:solidFill>
                <a:uFillTx/>
                <a:latin typeface="Arial"/>
              </a:rPr>
              <a:t>24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= 12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2!     2 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762120"/>
            <a:ext cx="777240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 the number of distinguishable permutations of the lette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4114800"/>
            <a:ext cx="7696440" cy="15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MISSISSIPPI : 11 letters with I repeated 4 times, S repeated 4 times, P repeated 2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38080" y="5257800"/>
            <a:ext cx="731520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b52525"/>
                </a:solidFill>
                <a:uFillTx/>
                <a:latin typeface="Arial"/>
              </a:rPr>
              <a:t>    </a:t>
            </a:r>
            <a:r>
              <a:rPr b="0" lang="en-US" sz="3200" spc="-1" strike="noStrike" u="sng">
                <a:solidFill>
                  <a:srgbClr val="b52525"/>
                </a:solidFill>
                <a:uFillTx/>
                <a:latin typeface="Arial"/>
              </a:rPr>
              <a:t>11!    </a:t>
            </a:r>
            <a:r>
              <a:rPr b="0" lang="en-US" sz="3200" spc="-1" strike="noStrike">
                <a:solidFill>
                  <a:srgbClr val="b52525"/>
                </a:solidFill>
                <a:latin typeface="Arial"/>
              </a:rPr>
              <a:t>  =  </a:t>
            </a:r>
            <a:r>
              <a:rPr b="0" lang="en-US" sz="3200" spc="-1" strike="noStrike" u="sng">
                <a:solidFill>
                  <a:srgbClr val="b52525"/>
                </a:solidFill>
                <a:uFillTx/>
                <a:latin typeface="Arial"/>
              </a:rPr>
              <a:t>39,916,800  </a:t>
            </a:r>
            <a:r>
              <a:rPr b="0" lang="en-US" sz="3200" spc="-1" strike="noStrike">
                <a:solidFill>
                  <a:srgbClr val="b52525"/>
                </a:solidFill>
                <a:latin typeface="Arial"/>
              </a:rPr>
              <a:t>  =  34,65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52525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b52525"/>
                </a:solidFill>
                <a:latin typeface="Arial"/>
              </a:rPr>
              <a:t>4!*4!*2!</a:t>
            </a:r>
            <a:r>
              <a:rPr b="0" lang="en-US" sz="3200" spc="-1" strike="noStrike">
                <a:solidFill>
                  <a:srgbClr val="b52525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b52525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b52525"/>
                </a:solidFill>
                <a:latin typeface="Arial"/>
              </a:rPr>
              <a:t>24*24*2</a:t>
            </a:r>
            <a:r>
              <a:rPr b="0" lang="en-US" sz="3200" spc="-1" strike="noStrike">
                <a:solidFill>
                  <a:srgbClr val="b52525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b52525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914400" y="2514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SUMMER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762120"/>
            <a:ext cx="777240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nd the number of distinguishable permutations of the letter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411480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WATERFALL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14600" y="4876920"/>
            <a:ext cx="335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52525"/>
                </a:solidFill>
                <a:latin typeface="Arial"/>
              </a:rPr>
              <a:t>90,7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0920" y="3076560"/>
            <a:ext cx="857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52525"/>
                </a:solidFill>
                <a:latin typeface="Arial"/>
              </a:rPr>
              <a:t>36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557360" y="177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14400" y="2742840"/>
            <a:ext cx="67816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8!/(3!*5!) =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762120"/>
            <a:ext cx="7772400" cy="17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Arial"/>
              </a:rPr>
              <a:t>A dog has 8 puppies, 3 male and 5 female.  How many birth orders are possibl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90920" y="3886200"/>
            <a:ext cx="335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52525"/>
                </a:solidFill>
                <a:latin typeface="Arial"/>
              </a:rPr>
              <a:t>5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761760" y="68544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 events can occur m, n, &amp; p ways, then the number of ways all three can occur is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m*n*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914400" y="2438280"/>
            <a:ext cx="7696080" cy="313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Event 1 = 4 mea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Event 2 = 3 chee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Event 3 = 3 b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0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How many different sandwiches can you mak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3280" y="5486400"/>
            <a:ext cx="432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52525"/>
                </a:solidFill>
                <a:latin typeface="Arial"/>
              </a:rPr>
              <a:t>4*3*3 = 36 sandwich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761760" y="685440"/>
            <a:ext cx="8001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 a restaurant at Cedar Point, you have the choice of 8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er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ntrees, 2 different salads, 12 different drinks, &amp; 6 different dese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914400" y="2438280"/>
            <a:ext cx="7696080" cy="21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How many different dinners (one choice of each) can you choos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9640" y="5257800"/>
            <a:ext cx="617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52525"/>
                </a:solidFill>
                <a:latin typeface="Arial"/>
              </a:rPr>
              <a:t>8*2*12*6 = 1152 different din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685440" y="68580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damental Counting Principal with re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1828800"/>
            <a:ext cx="685800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Ohio Licenses plates have 3 #’s followed by 3 let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How many different licenses plates are possible if digits and letters can be repeat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4440" y="4038480"/>
            <a:ext cx="7876800" cy="18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52525"/>
                </a:solidFill>
                <a:latin typeface="Arial"/>
              </a:rPr>
              <a:t>There are 10 choices for digi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52525"/>
                </a:solidFill>
                <a:latin typeface="Arial"/>
              </a:rPr>
              <a:t>and 26 choices for let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52525"/>
                </a:solidFill>
                <a:latin typeface="Arial"/>
              </a:rPr>
              <a:t>10*10*10*26*26*26 = 17,576,000 different pl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84872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How many plates are possible if digits and numbers cannot be repe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981080"/>
            <a:ext cx="6858000" cy="23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There are still 10 choices for the 1</a:t>
            </a:r>
            <a:r>
              <a:rPr b="0" lang="en-US" sz="2800" spc="-1" strike="noStrike" baseline="30000">
                <a:solidFill>
                  <a:srgbClr val="000080"/>
                </a:solidFill>
                <a:latin typeface="Arial"/>
              </a:rPr>
              <a:t>st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 digit but only 9 choices for the 2</a:t>
            </a:r>
            <a:r>
              <a:rPr b="0" lang="en-US" sz="2800" spc="-1" strike="noStrike" baseline="30000">
                <a:solidFill>
                  <a:srgbClr val="00008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, and 8 for the 3</a:t>
            </a:r>
            <a:r>
              <a:rPr b="0" lang="en-US" sz="2800" spc="-1" strike="noStrike" baseline="30000">
                <a:solidFill>
                  <a:srgbClr val="00008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For the letters, there are 26 for the first, but only 25 for the 2</a:t>
            </a:r>
            <a:r>
              <a:rPr b="0" lang="en-US" sz="2800" spc="-1" strike="noStrike" baseline="30000">
                <a:solidFill>
                  <a:srgbClr val="000080"/>
                </a:solidFill>
                <a:latin typeface="Arial"/>
              </a:rPr>
              <a:t>nd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 and 24 for the 3</a:t>
            </a:r>
            <a:r>
              <a:rPr b="0" lang="en-US" sz="2800" spc="-1" strike="noStrike" baseline="30000">
                <a:solidFill>
                  <a:srgbClr val="000080"/>
                </a:solidFill>
                <a:latin typeface="Arial"/>
              </a:rPr>
              <a:t>rd</a:t>
            </a:r>
            <a:r>
              <a:rPr b="0" lang="en-US" sz="2800" spc="-1" strike="noStrike">
                <a:solidFill>
                  <a:srgbClr val="00008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52480" y="5257800"/>
            <a:ext cx="6629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b52525"/>
                </a:solidFill>
                <a:latin typeface="Arial"/>
              </a:rPr>
              <a:t>10*9*8*26*25*24 = 11,232,000 plat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2133360" y="609480"/>
            <a:ext cx="47242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ne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2120" y="1981080"/>
            <a:ext cx="6858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How many different 7 digit phone numbers are possible if the 1</a:t>
            </a:r>
            <a:r>
              <a:rPr b="0" lang="en-US" sz="3200" spc="-1" strike="noStrike" baseline="30000">
                <a:solidFill>
                  <a:srgbClr val="00008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 digit cannot be a 0 or 1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5029200"/>
            <a:ext cx="7772400" cy="11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52525"/>
                </a:solidFill>
                <a:latin typeface="Arial"/>
              </a:rPr>
              <a:t>8*10*10*10*10*10*10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52525"/>
                </a:solidFill>
                <a:latin typeface="Arial"/>
              </a:rPr>
              <a:t>8,000,000 different numb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133360" y="609480"/>
            <a:ext cx="47242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1981080"/>
            <a:ext cx="6858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80"/>
                </a:solidFill>
                <a:latin typeface="Arial"/>
              </a:rPr>
              <a:t>A multiple choice test has 10 questions with 4 answers each.  How many ways can you complete the tes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487692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52525"/>
                </a:solidFill>
                <a:latin typeface="Arial"/>
              </a:rPr>
              <a:t>4*4*4*4*4*4*4*4*4*4 = 4</a:t>
            </a:r>
            <a:r>
              <a:rPr b="0" lang="en-US" sz="3200" spc="-1" strike="noStrike" baseline="30000">
                <a:solidFill>
                  <a:srgbClr val="b52525"/>
                </a:solidFill>
                <a:latin typeface="Arial"/>
              </a:rPr>
              <a:t>10</a:t>
            </a:r>
            <a:r>
              <a:rPr b="0" lang="en-US" sz="3200" spc="-1" strike="noStrike">
                <a:solidFill>
                  <a:srgbClr val="b52525"/>
                </a:solidFill>
                <a:latin typeface="Arial"/>
              </a:rPr>
              <a:t> = 1,048,57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6ab94"/>
            </a:gs>
            <a:gs pos="100000">
              <a:srgbClr val="8488c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2133360" y="609480"/>
            <a:ext cx="472428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Using Permu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981080"/>
            <a:ext cx="777240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rdering of n objects is a permutation of the objec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0T03:55:20Z</dcterms:created>
  <dc:creator>TGHS</dc:creator>
  <dc:description/>
  <dc:language>en-US</dc:language>
  <cp:lastModifiedBy>TGHS</cp:lastModifiedBy>
  <cp:lastPrinted>2008-11-20T13:35:48Z</cp:lastPrinted>
  <dcterms:modified xsi:type="dcterms:W3CDTF">2008-11-20T13:36:00Z</dcterms:modified>
  <cp:revision>4</cp:revision>
  <dc:subject/>
  <dc:title>Combinations and Permutations</dc:title>
</cp:coreProperties>
</file>